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B04-5DD2-4CD9-8C59-88D3C57B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F397-B50D-4898-9DDB-76BAB856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2B6B-F1B0-4EAA-B4B9-6DA8546D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9897-7E62-4F3B-8E58-726EB6F2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CD7C-EBE1-4E19-B808-0456573F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262E1-10C1-41C9-AA8B-23D84A83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CF9A-C2B0-43B2-BA18-D30C448F7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70C8-1EEA-43B6-81B1-639DF85A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B4D4-CB83-4E7E-BA82-24E79D3A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732B-51FC-4130-B7A0-D9B7D135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DFF4-F650-4008-A1F1-28581BF1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69D-8F6B-4191-9F44-4FAB0648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954B-D62E-41D1-A5E5-80ED488E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800F2-42E0-4D1A-A079-E7BC608EA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C74D-69B1-497F-8C4D-50F3D33A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FE8A-A784-4706-89AB-32543E40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C459-B505-4F23-A36E-AA21907D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978-D7DF-4A5B-A319-3D642BE1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C38-57D8-48A0-A2F8-A7592275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B919-5E54-469B-B23A-8ED4E24E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7BE-4BE2-4667-BB82-325918096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078-BFA2-4DF7-8C1D-67A18FF0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FBAA-1A24-4230-BF97-C5765B53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F795-E8BD-46EC-8D23-0EDB597E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1BDF-8356-4D71-9359-8D03C7B48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4" descr="ts_homebannerA"/>
          <p:cNvPicPr/>
          <p:nvPr/>
        </p:nvPicPr>
        <p:blipFill>
          <a:blip r:embed="rId2"/>
          <a:srcRect l="0" t="0" r="0" b="49578"/>
          <a:stretch/>
        </p:blipFill>
        <p:spPr>
          <a:xfrm>
            <a:off x="0" y="6292800"/>
            <a:ext cx="9144000" cy="56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9" name="Picture 17" descr="ts_homebannerA"/>
          <p:cNvPicPr/>
          <p:nvPr/>
        </p:nvPicPr>
        <p:blipFill>
          <a:blip r:embed="rId2"/>
          <a:srcRect l="0" t="0" r="0" b="49578"/>
          <a:stretch/>
        </p:blipFill>
        <p:spPr>
          <a:xfrm>
            <a:off x="0" y="6292800"/>
            <a:ext cx="9144000" cy="565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0205-02BB-4B5C-ACA9-BDC0DCCC3CBE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6761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tandards and Conformity Assessment Coordination Services for Public and Private Sector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10720" y="294156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IA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eptembe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ordon Gille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tandards Services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ational Institute of Standards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gordon.gillerman@nist.gov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8000" y="10886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18c"/>
                </a:solidFill>
                <a:latin typeface="Times New Roman"/>
              </a:rPr>
              <a:t>US CPSC Laboratory Recognition Program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52280" y="23623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971640" y="2151000"/>
            <a:ext cx="7543800" cy="53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12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Times New Roman"/>
              </a:rPr>
              <a:t>Based on requirements of Consumer Product Safety Improvement Act driven by toy recalls in 2007.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buClr>
                <a:srgbClr val="0021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buClr>
                <a:srgbClr val="0021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18c"/>
                </a:solidFill>
                <a:latin typeface="Times New Roman"/>
              </a:rPr>
              <a:t>NIST SSD provided advisory services and training to US CPSC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buClr>
                <a:srgbClr val="0021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21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18c"/>
                </a:solidFill>
                <a:latin typeface="Times New Roman"/>
              </a:rPr>
              <a:t>Laboratories recognized based significantly on accreditation for appropriate test methods by ILAC MRA signatory Accreditor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21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21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18c"/>
                </a:solidFill>
                <a:latin typeface="Times New Roman"/>
              </a:rPr>
              <a:t>Requirements will address “independent”, “proprietary- firewalled” and “government” laboratorie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buClr>
                <a:srgbClr val="0021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18c"/>
                </a:solidFill>
                <a:latin typeface="Times New Roman"/>
              </a:rPr>
              <a:t>US CPSC recently published proposed recognized laboratory audit requirements that rely heavily on accreditors procedure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21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18c"/>
                </a:solidFill>
                <a:latin typeface="Times New Roman"/>
              </a:rPr>
              <a:t>NIST SSD is also working with toy industry to develop a toy safety certification program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21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veloping Industry Toy Safety Certification System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7010280" y="3124080"/>
            <a:ext cx="1676520" cy="228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7086600" y="37339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redited certification organiz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143000" y="4924440"/>
            <a:ext cx="2971800" cy="1321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results from accredited l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 type te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odic Rete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1143000" y="1311120"/>
            <a:ext cx="2971800" cy="2178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y production process management system certification from accredited registr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l assessm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di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riodic reassessment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143000" y="3724200"/>
            <a:ext cx="2971800" cy="5806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sign hazard analysis attestation from applica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4114800" y="1981080"/>
            <a:ext cx="289548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4114800" y="40384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6172200" y="3657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13"/>
          <p:cNvSpPr/>
          <p:nvPr/>
        </p:nvSpPr>
        <p:spPr>
          <a:xfrm flipV="1">
            <a:off x="4114800" y="4495320"/>
            <a:ext cx="2895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6934320" y="11430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6934320" y="990720"/>
            <a:ext cx="1752480" cy="11944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gram administra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ertification mark own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Line 16"/>
          <p:cNvSpPr/>
          <p:nvPr/>
        </p:nvSpPr>
        <p:spPr>
          <a:xfrm>
            <a:off x="731520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467480" y="236232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License agreement for certification mar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18"/>
          <p:cNvSpPr/>
          <p:nvPr/>
        </p:nvSpPr>
        <p:spPr>
          <a:xfrm>
            <a:off x="784872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9"/>
          <p:cNvSpPr/>
          <p:nvPr/>
        </p:nvSpPr>
        <p:spPr>
          <a:xfrm>
            <a:off x="6781680" y="5715000"/>
            <a:ext cx="2286000" cy="71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uthorization to mark certified products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56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pplicant and model designation on publicly availably list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20"/>
          <p:cNvSpPr/>
          <p:nvPr/>
        </p:nvSpPr>
        <p:spPr>
          <a:xfrm rot="2002800">
            <a:off x="4561920" y="24350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449568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23"/>
          <p:cNvSpPr/>
          <p:nvPr/>
        </p:nvSpPr>
        <p:spPr>
          <a:xfrm rot="20362800">
            <a:off x="4495680" y="48607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3600" y="807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NIST SSD Service Overview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6800" y="19047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18c"/>
                </a:solidFill>
                <a:latin typeface="Times New Roman"/>
              </a:rPr>
              <a:t>Assist US Federal, State and Local Government Agencies in developing standards and conformity policies and administrative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18c"/>
                </a:solidFill>
                <a:latin typeface="Times New Roman"/>
              </a:rPr>
              <a:t>Design and assist in the implementation of conformity assessment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18c"/>
                </a:solidFill>
                <a:latin typeface="Times New Roman"/>
              </a:rPr>
              <a:t>Assist in the deployment of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18c"/>
                </a:solidFill>
                <a:latin typeface="Times New Roman"/>
              </a:rPr>
              <a:t>Coordinate and network with standards development organizations, government and indu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18c"/>
                </a:solidFill>
                <a:latin typeface="Times New Roman"/>
              </a:rPr>
              <a:t>Promote use of available international and national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18c"/>
                </a:solidFill>
                <a:latin typeface="Times New Roman"/>
              </a:rPr>
              <a:t>Identify standards suitable for regulation, procurement and grant guidance for conside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18c"/>
                </a:solidFill>
                <a:latin typeface="Times New Roman"/>
              </a:rPr>
              <a:t>Participate in the development of key standa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3600" y="8078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National Technology Transfer and Advancement Ac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6800" y="23522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18c"/>
                </a:solidFill>
                <a:latin typeface="Times New Roman"/>
              </a:rPr>
              <a:t>Promotes the use of private sector consensus standards by Federal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18c"/>
                </a:solidFill>
                <a:latin typeface="Times New Roman"/>
              </a:rPr>
              <a:t>Gives NIST role in coordination of conformity assessment among federal, state and local government to reduce redund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18c"/>
                </a:solidFill>
                <a:latin typeface="Times New Roman"/>
              </a:rPr>
              <a:t>advocate use the appropriate conformity assessment too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Supplier’s Decla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Insp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Cer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eg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Accre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Object 4" descr=""/>
          <p:cNvPicPr/>
          <p:nvPr/>
        </p:nvPicPr>
        <p:blipFill>
          <a:blip r:embed="rId1"/>
          <a:stretch/>
        </p:blipFill>
        <p:spPr>
          <a:xfrm>
            <a:off x="4800600" y="3505320"/>
            <a:ext cx="3352680" cy="24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18c"/>
                </a:solidFill>
                <a:latin typeface="Times New Roman"/>
              </a:rPr>
              <a:t>with their associated international nor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Supplier’s Decl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Insp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Cer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egis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Accre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4762440" y="1785960"/>
            <a:ext cx="4191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ISO/IEC 17050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parts 1 and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ISO/IEC 17020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ISO/IEC 1702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ISO/IEC Guide 65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ISO/IEC 1702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ISO/IEC 1701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8000" y="10886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18c"/>
                </a:solidFill>
                <a:latin typeface="Times New Roman"/>
              </a:rPr>
              <a:t>Factors in CA System Design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236232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971640" y="2178000"/>
            <a:ext cx="7543800" cy="47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12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cc0000"/>
                </a:solidFill>
                <a:latin typeface="Times New Roman"/>
              </a:rPr>
              <a:t>The risks associated with non-compliance should be proportional to the rigor and independence of the CA system</a:t>
            </a:r>
            <a:r>
              <a:rPr b="1" lang="en-US" sz="2100" spc="-1" strike="noStrike">
                <a:solidFill>
                  <a:srgbClr val="ff9966"/>
                </a:solidFill>
                <a:latin typeface="Times New Roman"/>
              </a:rPr>
              <a:t>.</a:t>
            </a:r>
            <a:r>
              <a:rPr b="1" lang="en-US" sz="2100" spc="-1" strike="noStrike">
                <a:solidFill>
                  <a:srgbClr val="eaef11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buClr>
                <a:srgbClr val="0021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18c"/>
                </a:solidFill>
                <a:latin typeface="Times New Roman"/>
              </a:rPr>
              <a:t>System over-design will add too much cost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buClr>
                <a:srgbClr val="0021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buClr>
                <a:srgbClr val="0021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18c"/>
                </a:solidFill>
                <a:latin typeface="Times New Roman"/>
              </a:rPr>
              <a:t>System Under-design will result in too little confidence of complianc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312"/>
              </a:spcBef>
              <a:buClr>
                <a:srgbClr val="0021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18c"/>
                </a:solidFill>
                <a:latin typeface="Times New Roman"/>
              </a:rPr>
              <a:t>Penalties associated with non-compliance may reduce the needed rigor and independence of the conformity assessment system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21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18c"/>
                </a:solidFill>
                <a:latin typeface="Times New Roman"/>
              </a:rPr>
              <a:t>Timely mechanisms that effectively remove non-compliant products from the market may also reduce the needed rigor and independence of the system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12"/>
              </a:spcBef>
              <a:buClr>
                <a:srgbClr val="0021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17240" y="534600"/>
            <a:ext cx="699948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18c"/>
                </a:solidFill>
                <a:latin typeface="Times New Roman"/>
              </a:rPr>
              <a:t>Risk and Conformity Assessment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ow much confidence is needed?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18" name="Group 11"/>
          <p:cNvGrpSpPr/>
          <p:nvPr/>
        </p:nvGrpSpPr>
        <p:grpSpPr>
          <a:xfrm>
            <a:off x="447840" y="922680"/>
            <a:ext cx="7781760" cy="5450400"/>
            <a:chOff x="447840" y="922680"/>
            <a:chExt cx="7781760" cy="5450400"/>
          </a:xfrm>
        </p:grpSpPr>
        <p:sp>
          <p:nvSpPr>
            <p:cNvPr id="119" name="Line 3"/>
            <p:cNvSpPr/>
            <p:nvPr/>
          </p:nvSpPr>
          <p:spPr>
            <a:xfrm flipV="1">
              <a:off x="990720" y="1341360"/>
              <a:ext cx="0" cy="457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Line 4"/>
            <p:cNvSpPr/>
            <p:nvPr/>
          </p:nvSpPr>
          <p:spPr>
            <a:xfrm>
              <a:off x="990720" y="5913360"/>
              <a:ext cx="685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" name="Text Box 5"/>
            <p:cNvSpPr/>
            <p:nvPr/>
          </p:nvSpPr>
          <p:spPr>
            <a:xfrm rot="16179000">
              <a:off x="-775800" y="386964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218c"/>
                  </a:solidFill>
                  <a:latin typeface="Times New Roman"/>
                </a:rPr>
                <a:t>Perceived Risk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Oval 6"/>
            <p:cNvSpPr/>
            <p:nvPr/>
          </p:nvSpPr>
          <p:spPr>
            <a:xfrm rot="20836800">
              <a:off x="990360" y="2712600"/>
              <a:ext cx="3886200" cy="3201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21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Text Box 7"/>
            <p:cNvSpPr/>
            <p:nvPr/>
          </p:nvSpPr>
          <p:spPr>
            <a:xfrm>
              <a:off x="1143000" y="5913360"/>
              <a:ext cx="708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18c"/>
                  </a:solidFill>
                  <a:latin typeface="Times New Roman"/>
                </a:rPr>
                <a:t>Independence and Rigor of Conformity Assessmen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Oval 8"/>
            <p:cNvSpPr/>
            <p:nvPr/>
          </p:nvSpPr>
          <p:spPr>
            <a:xfrm rot="20836800">
              <a:off x="3505320" y="1341000"/>
              <a:ext cx="4190760" cy="3485880"/>
            </a:xfrm>
            <a:prstGeom prst="ellipse">
              <a:avLst/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Text Box 9"/>
            <p:cNvSpPr/>
            <p:nvPr/>
          </p:nvSpPr>
          <p:spPr>
            <a:xfrm>
              <a:off x="1523880" y="3703320"/>
              <a:ext cx="2286000" cy="18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Supplier’s declar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s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party conformity assess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Text Box 10"/>
            <p:cNvSpPr/>
            <p:nvPr/>
          </p:nvSpPr>
          <p:spPr>
            <a:xfrm>
              <a:off x="4191120" y="2331720"/>
              <a:ext cx="251460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ertification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rd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party conformity assessmen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63640" y="3535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18c"/>
                </a:solidFill>
                <a:latin typeface="Times New Roman"/>
              </a:rPr>
              <a:t>Conformity Assessment Hierarchy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232000" y="1123920"/>
            <a:ext cx="49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18c"/>
                </a:solidFill>
                <a:latin typeface="Arial"/>
              </a:rPr>
              <a:t>Who watches the watcher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yr2"/>
          <p:cNvSpPr/>
          <p:nvPr/>
        </p:nvSpPr>
        <p:spPr>
          <a:xfrm>
            <a:off x="2976480" y="1825560"/>
            <a:ext cx="3198960" cy="1486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yr3"/>
          <p:cNvSpPr/>
          <p:nvPr/>
        </p:nvSpPr>
        <p:spPr>
          <a:xfrm>
            <a:off x="2125800" y="3311640"/>
            <a:ext cx="4900320" cy="14842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yr4"/>
          <p:cNvSpPr/>
          <p:nvPr/>
        </p:nvSpPr>
        <p:spPr>
          <a:xfrm>
            <a:off x="1257480" y="4788000"/>
            <a:ext cx="6629400" cy="1485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987640" y="52372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700360" y="3535200"/>
            <a:ext cx="3657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er/Inspection Body/Laborat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3672000" y="257796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ccredi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92000" y="691920"/>
            <a:ext cx="779328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70000"/>
                </a:solidFill>
                <a:latin typeface="Arial"/>
              </a:rPr>
              <a:t>IPV6 Conformity Assessment</a:t>
            </a:r>
            <a:br>
              <a:rPr sz="3800"/>
            </a:br>
            <a:r>
              <a:rPr b="0" lang="en-US" sz="3800" spc="-1" strike="noStrike">
                <a:solidFill>
                  <a:srgbClr val="070000"/>
                </a:solidFill>
                <a:latin typeface="Arial"/>
              </a:rPr>
              <a:t>Draft</a:t>
            </a:r>
            <a:endParaRPr b="0" lang="en-US" sz="3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985080" y="2492280"/>
            <a:ext cx="1003320" cy="17017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150920" y="2313000"/>
            <a:ext cx="1930320" cy="24638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AutoShape 5"/>
          <p:cNvSpPr/>
          <p:nvPr/>
        </p:nvSpPr>
        <p:spPr>
          <a:xfrm rot="10800000">
            <a:off x="3311640" y="2241360"/>
            <a:ext cx="1154160" cy="968040"/>
          </a:xfrm>
          <a:prstGeom prst="leftArrow">
            <a:avLst>
              <a:gd name="adj1" fmla="val 50000"/>
              <a:gd name="adj2" fmla="val 2980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586728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5867280" y="3213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5832360" y="3753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572000" y="2313000"/>
            <a:ext cx="1117440" cy="25146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3166920" y="3249720"/>
            <a:ext cx="1217880" cy="714240"/>
          </a:xfrm>
          <a:prstGeom prst="leftArrow">
            <a:avLst>
              <a:gd name="adj1" fmla="val 50000"/>
              <a:gd name="adj2" fmla="val 4262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6948360" y="2889360"/>
            <a:ext cx="104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70000"/>
                </a:solidFill>
                <a:latin typeface="Arial"/>
              </a:rPr>
              <a:t>Accredi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0000"/>
                </a:solidFill>
                <a:latin typeface="Arial"/>
              </a:rPr>
              <a:t>IPV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70000"/>
                </a:solidFill>
                <a:latin typeface="Arial"/>
              </a:rPr>
              <a:t>Testing Lab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619520" y="3068640"/>
            <a:ext cx="9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0000"/>
                </a:solidFill>
                <a:latin typeface="Arial"/>
              </a:rPr>
              <a:t>IPV6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70000"/>
                </a:solidFill>
                <a:latin typeface="Arial"/>
              </a:rPr>
              <a:t>Vend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1259280" y="3105000"/>
            <a:ext cx="175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000"/>
                </a:solidFill>
                <a:latin typeface="Arial"/>
              </a:rPr>
              <a:t>Procur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70000"/>
                </a:solidFill>
                <a:latin typeface="Arial"/>
              </a:rPr>
              <a:t>Ag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5831280" y="267336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0000"/>
                </a:solidFill>
                <a:latin typeface="Arial"/>
              </a:rPr>
              <a:t>Equip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120720" y="33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5977440" y="3860640"/>
            <a:ext cx="68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3419640" y="3465360"/>
            <a:ext cx="76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0000"/>
                </a:solidFill>
                <a:latin typeface="Arial"/>
              </a:rPr>
              <a:t>SDoC *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8"/>
          <p:cNvSpPr/>
          <p:nvPr/>
        </p:nvSpPr>
        <p:spPr>
          <a:xfrm>
            <a:off x="6985080" y="5013360"/>
            <a:ext cx="1011240" cy="507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7020000" y="5013360"/>
            <a:ext cx="126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0000"/>
                </a:solidFill>
                <a:latin typeface="Arial"/>
              </a:rPr>
              <a:t>Lab Accredit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3311640" y="2457360"/>
            <a:ext cx="102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70000"/>
                </a:solidFill>
                <a:latin typeface="Arial"/>
              </a:rPr>
              <a:t>IPV6 Technical Specifications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AutoShape 21"/>
          <p:cNvSpPr/>
          <p:nvPr/>
        </p:nvSpPr>
        <p:spPr>
          <a:xfrm>
            <a:off x="3343320" y="4113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3636360" y="42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AutoShape 23"/>
          <p:cNvSpPr/>
          <p:nvPr/>
        </p:nvSpPr>
        <p:spPr>
          <a:xfrm rot="16200000">
            <a:off x="6972120" y="4383000"/>
            <a:ext cx="714240" cy="330120"/>
          </a:xfrm>
          <a:prstGeom prst="rightArrow">
            <a:avLst>
              <a:gd name="adj1" fmla="val 50000"/>
              <a:gd name="adj2" fmla="val 54089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AutoShape 24"/>
          <p:cNvSpPr/>
          <p:nvPr/>
        </p:nvSpPr>
        <p:spPr>
          <a:xfrm rot="5400000">
            <a:off x="7397280" y="4456080"/>
            <a:ext cx="720720" cy="323640"/>
          </a:xfrm>
          <a:prstGeom prst="rightArrow">
            <a:avLst>
              <a:gd name="adj1" fmla="val 50000"/>
              <a:gd name="adj2" fmla="val 5567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25"/>
          <p:cNvSpPr/>
          <p:nvPr/>
        </p:nvSpPr>
        <p:spPr>
          <a:xfrm>
            <a:off x="761796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70000"/>
                </a:solidFill>
                <a:latin typeface="Arial"/>
              </a:rPr>
              <a:t>$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7164360" y="4437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27"/>
          <p:cNvSpPr/>
          <p:nvPr/>
        </p:nvSpPr>
        <p:spPr>
          <a:xfrm>
            <a:off x="6300720" y="5661000"/>
            <a:ext cx="25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sessment and accredi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2519280" y="5734080"/>
            <a:ext cx="298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* Supplier’s Declaration of Conformity per ISO/IEC 17050 parts 1 and 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8:47:54Z</dcterms:created>
  <dc:creator>Georgia Harris</dc:creator>
  <dc:description/>
  <dc:language>en-US</dc:language>
  <cp:lastModifiedBy>gillerma</cp:lastModifiedBy>
  <dcterms:modified xsi:type="dcterms:W3CDTF">2009-09-03T02:07:38Z</dcterms:modified>
  <cp:revision>111</cp:revision>
  <dc:subject/>
  <dc:title>Slide 1</dc:title>
</cp:coreProperties>
</file>